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4.wmf" ContentType="image/x-wmf"/>
  <Override PartName="/ppt/media/LASER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6.wmf" ContentType="image/x-wmf"/>
  <Override PartName="/ppt/media/image36.wmf" ContentType="image/x-wmf"/>
  <Override PartName="/ppt/media/image26.wmf" ContentType="image/x-wmf"/>
  <Override PartName="/ppt/media/image27.wmf" ContentType="image/x-wmf"/>
  <Override PartName="/ppt/media/image25.wmf" ContentType="image/x-wmf"/>
  <Override PartName="/ppt/media/projctor.wav" ContentType="audio/x-wav"/>
  <Override PartName="/ppt/media/CAMERA.WAV" ContentType="audio/x-wav"/>
  <Override PartName="/ppt/media/image24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45.gif" ContentType="image/gif"/>
  <Override PartName="/ppt/media/image38.wmf" ContentType="image/x-wmf"/>
  <Override PartName="/ppt/media/image8.wmf" ContentType="image/x-wmf"/>
  <Override PartName="/ppt/media/image30.wmf" ContentType="image/x-wmf"/>
  <Override PartName="/ppt/media/cashreg.wav" ContentType="audio/x-wav"/>
  <Override PartName="/ppt/media/image42.wmf" ContentType="image/x-wmf"/>
  <Override PartName="/ppt/media/image43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39.wmf" ContentType="image/x-wmf"/>
  <Override PartName="/ppt/media/image9.wmf" ContentType="image/x-wmf"/>
  <Override PartName="/ppt/media/image7.wmf" ContentType="image/x-wmf"/>
  <Override PartName="/ppt/media/image3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C64-4CD6-4958-AB6A-1AE4F52F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2DA-E474-4167-AC45-F5917BF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6B4-FF18-4F3D-A76C-68F128AD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702-A25B-4D99-94E7-4D4DA9C4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62D-3A9B-4B30-A296-F420E9B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DB3-D377-4224-8078-67443416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CB2-4A83-4B17-9152-43AC44CE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EF9-28D1-4C4A-BFE7-EA65926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46C-221D-4FBA-B7EA-4EB65056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7B7-0748-4FE0-8C0C-F287087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8FB-EB94-49C1-B922-9A944C5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FDB-6DB8-416E-93B5-E65DE58D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2B28-2496-4180-9172-BE8F1E79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EXPLODE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driveby.wav"/><Relationship Id="rId42" Type="http://schemas.openxmlformats.org/officeDocument/2006/relationships/audio" Target="../media/EXPLODE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audio" Target="../media/EXPLODE.WAV"/><Relationship Id="rId32" Type="http://schemas.openxmlformats.org/officeDocument/2006/relationships/audio" Target="../media/glass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audio" Target="../media/EXPLODE.WAV"/><Relationship Id="rId24" Type="http://schemas.openxmlformats.org/officeDocument/2006/relationships/audio" Target="../media/glass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EXPLODE.WAV"/><Relationship Id="rId29" Type="http://schemas.openxmlformats.org/officeDocument/2006/relationships/audio" Target="../media/projctor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audio" Target="../media/EXPLODE.WAV"/><Relationship Id="rId20" Type="http://schemas.openxmlformats.org/officeDocument/2006/relationships/audio" Target="../media/projctor.wav"/><Relationship Id="rId21" Type="http://schemas.openxmlformats.org/officeDocument/2006/relationships/audio" Target="../media/glass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audio" Target="../media/EXPLODE.WAV"/><Relationship Id="rId30" Type="http://schemas.openxmlformats.org/officeDocument/2006/relationships/audio" Target="../media/projctor.wav"/><Relationship Id="rId31" Type="http://schemas.openxmlformats.org/officeDocument/2006/relationships/audio" Target="../media/glass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audio" Target="../media/cashreg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28600" y="2133720"/>
                <a:ext cx="4606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85800" y="3021120"/>
                <a:ext cx="5105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5" name=""/>
          <p:cNvGraphicFramePr/>
          <p:nvPr/>
        </p:nvGraphicFramePr>
        <p:xfrm>
          <a:off x="1592280" y="3110040"/>
          <a:ext cx="820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3110040"/>
                    <a:ext cx="820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3124080"/>
          <a:ext cx="8733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124080"/>
                    <a:ext cx="873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05520" y="3124080"/>
          <a:ext cx="4111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895480" y="3809880"/>
          <a:ext cx="118440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1184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962520" y="4267080"/>
          <a:ext cx="8301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4267080"/>
                    <a:ext cx="830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00200" y="426708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4267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408400" y="4876920"/>
          <a:ext cx="16984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8400" y="4876920"/>
                    <a:ext cx="169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62520" y="4876920"/>
          <a:ext cx="8730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4876920"/>
                    <a:ext cx="87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143000" y="3124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312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3124080"/>
          <a:ext cx="6606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3809880"/>
          <a:ext cx="8762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625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55680" y="2127240"/>
                <a:ext cx="4995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27000" y="2973240"/>
                <a:ext cx="49640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6" name=""/>
          <p:cNvGraphicFramePr/>
          <p:nvPr/>
        </p:nvGraphicFramePr>
        <p:xfrm>
          <a:off x="1803240" y="3110040"/>
          <a:ext cx="87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3110040"/>
                    <a:ext cx="87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303720" y="3124080"/>
          <a:ext cx="5126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3720" y="3124080"/>
                    <a:ext cx="512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00760" y="311004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311004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075120" y="3809880"/>
          <a:ext cx="823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5120" y="3809880"/>
                    <a:ext cx="823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36960" y="426708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6960" y="426708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574640" y="4267080"/>
          <a:ext cx="8827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4640" y="42670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587680" y="4876920"/>
          <a:ext cx="13381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87680" y="487692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33640" y="4876920"/>
          <a:ext cx="11304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33640" y="4876920"/>
                    <a:ext cx="1130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20920" y="3097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20920" y="309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774800" y="3124080"/>
          <a:ext cx="6606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7480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8440" y="3809880"/>
          <a:ext cx="11858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8440" y="3809880"/>
                    <a:ext cx="1185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86400" y="3110040"/>
          <a:ext cx="66024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86400" y="3110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979880" y="3138480"/>
          <a:ext cx="660600" cy="609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979880" y="313848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7680" y="2133720"/>
                <a:ext cx="4230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55800" y="3002040"/>
                <a:ext cx="49370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2057400" y="3124080"/>
          <a:ext cx="461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61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176640" y="3124080"/>
          <a:ext cx="768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6640" y="3124080"/>
                    <a:ext cx="768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3124080"/>
          <a:ext cx="5140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124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114560" y="3809880"/>
          <a:ext cx="18525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4560" y="3809880"/>
                    <a:ext cx="1852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971800" y="38862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8862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733920" y="4267080"/>
          <a:ext cx="8301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267080"/>
                    <a:ext cx="830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600200" y="426708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4267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5029200"/>
          <a:ext cx="138888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5029200"/>
                    <a:ext cx="138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733920" y="4952880"/>
          <a:ext cx="87300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9528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33920" y="3809880"/>
          <a:ext cx="876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35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1440" y="3174840"/>
                <a:ext cx="528948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5943600" y="3276720"/>
          <a:ext cx="16765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276720"/>
                    <a:ext cx="16765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58880" y="4157640"/>
                <a:ext cx="4811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124080" y="4267080"/>
          <a:ext cx="5144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267080"/>
                    <a:ext cx="51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76920" y="4267080"/>
          <a:ext cx="5140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4267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14400" y="4876920"/>
          <a:ext cx="18525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4876920"/>
          <a:ext cx="8240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87692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29000" y="5334120"/>
          <a:ext cx="8301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33412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33412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943600"/>
          <a:ext cx="133848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943600"/>
                    <a:ext cx="133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429000" y="5943600"/>
          <a:ext cx="822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59436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429000" y="4876920"/>
          <a:ext cx="8240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87692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68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5040" y="3216240"/>
                <a:ext cx="52624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5999040" y="3276720"/>
          <a:ext cx="15652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9040" y="3276720"/>
                    <a:ext cx="1565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26920" y="4173480"/>
                <a:ext cx="477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6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174840" y="4267080"/>
          <a:ext cx="4129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267080"/>
                    <a:ext cx="412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722840" y="4267080"/>
          <a:ext cx="82404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2840" y="4267080"/>
                    <a:ext cx="824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52480" y="5181480"/>
          <a:ext cx="1028880" cy="66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181480"/>
                    <a:ext cx="10288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820960" y="5156280"/>
          <a:ext cx="51444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0960" y="5156280"/>
                    <a:ext cx="514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76720" y="5029200"/>
          <a:ext cx="8236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5029200"/>
                    <a:ext cx="82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343400" y="4267080"/>
          <a:ext cx="66024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10240" y="4294080"/>
          <a:ext cx="660240" cy="60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0240" y="429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94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7040" y="3211560"/>
                <a:ext cx="5621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5748480" y="3276720"/>
          <a:ext cx="206676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8480" y="3276720"/>
                    <a:ext cx="2066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55720" y="4172040"/>
                <a:ext cx="47163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1736640" y="4267080"/>
          <a:ext cx="77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4267080"/>
                    <a:ext cx="77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944800" y="4267080"/>
          <a:ext cx="8730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4800" y="4267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900680" y="4253040"/>
          <a:ext cx="4111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0680" y="425304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939960" y="4876920"/>
          <a:ext cx="18018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39960" y="4876920"/>
                    <a:ext cx="1801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666880" y="4876920"/>
          <a:ext cx="118440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876920"/>
                    <a:ext cx="118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733920" y="5334120"/>
          <a:ext cx="77760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33920" y="5334120"/>
                    <a:ext cx="777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47920" y="5334120"/>
          <a:ext cx="77760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334120"/>
                    <a:ext cx="777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943600"/>
          <a:ext cx="16988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943600"/>
                    <a:ext cx="169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733920" y="5943600"/>
          <a:ext cx="77148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943600"/>
                    <a:ext cx="771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4876920"/>
          <a:ext cx="874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4876920"/>
                    <a:ext cx="87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58920" y="4267080"/>
          <a:ext cx="6602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5892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84440" y="4294080"/>
          <a:ext cx="660240" cy="609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84440" y="429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3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Use the linear equation from Example 3 to estimate the total cost </a:t>
            </a:r>
            <a:r>
              <a:rPr b="1" i="1" lang="en-US" sz="2800" spc="-1" strike="noStrike">
                <a:solidFill>
                  <a:srgbClr val="0066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of parking for 7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52480" y="1905120"/>
          <a:ext cx="32511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3251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650960" y="2562120"/>
                <a:ext cx="4122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1676520" y="4267080"/>
          <a:ext cx="265572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267080"/>
                    <a:ext cx="2655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68580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t would $12.75 to park for 7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038480" y="2590920"/>
          <a:ext cx="5526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590920"/>
                    <a:ext cx="552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676520" y="3429000"/>
          <a:ext cx="32115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29000"/>
                    <a:ext cx="3211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5851440" y="1503360"/>
            <a:ext cx="866880" cy="1486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5854680" y="2279520"/>
            <a:ext cx="30956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36:45Z</dcterms:modified>
  <cp:revision>156</cp:revision>
  <dc:subject/>
  <dc:title>No Slide Title</dc:title>
</cp:coreProperties>
</file>